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96AC-C06E-4905-80D9-4E085E63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9F04-55F8-41E4-BE67-86EFFDFA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A0E-DE61-4DFE-A53A-16F23F2A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57A-CFA9-42C0-8B3C-207D5826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1C54-73BF-4667-8ED1-6E43DB51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9DC6-319D-4B9C-8AF6-C53DCDA6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18F3-1C0F-4B23-B5DD-76E6FA5D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A51C-F825-4345-A570-43CE5635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E451-8B53-491E-977C-72725A5D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93CA-E459-4715-A4E4-A5BCB4E1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7469-9A2C-4C11-B350-002C73F2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126-5AB5-4F51-9128-04E1447E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C329-12A5-462A-BAC4-DF3C7AF4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EB16-D2DC-4A1B-9DBE-929AC7F3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F653-0C19-46BD-BB9A-4921E127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1726-A9DF-4638-9141-AC8D9EF3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91DD-E5C4-4A20-9FC0-AA3B5ACE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3B36B-315F-49C0-A7E3-C6CF7B07C9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36D53-78E9-4B52-AE87-3EFA71D1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5ED2A-967D-41C7-B382-1E768C86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93986-6B26-4934-99C0-017F45CD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D92FC-0531-4990-B7C0-BD8F8893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9D7C-E121-486C-883D-6068E489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CE033-E213-4325-8277-77A43BEA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C23F70-4148-4E42-A410-9A613613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49C09-07A9-4227-865C-DDAF2C72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91A9E-1FC9-4322-B60A-839CD304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07C70-575C-46F0-80E6-57A8081B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8F057F-CCF2-4663-9B19-3EB1BBE2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9133E-218F-4DD0-84C5-2087EB8B38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F77-610B-4244-9A2A-D19F0F25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762D-25C6-468A-BF5B-3A67358C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907-2269-45EA-AE77-31611E3B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2CF2-F509-474E-A950-38C3C328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A0E-65BB-4032-8AF8-AEDAE45C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AE7-336E-44DB-B564-E3C6EA38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1027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35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036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037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038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042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043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1045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1046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1047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1049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1050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1051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1052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1053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C669-F415-469B-A2BA-F78CAD9547F9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Text Box 1059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Text Box 1060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Text Box 106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 30 septembre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433B8A15-72A1-4DB7-A9FD-568EB45F5399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 28-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 30 septembre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 C:\polo\communication\présentations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 1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Text Box 106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Livrable N°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Text Box 38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39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0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  30/09/2000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1950C4DC-4150-42AE-A216-D54B2B7EF864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 28-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30/09/2000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 C\polo\communicatio\présentations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1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41"/>
          <p:cNvSpPr/>
          <p:nvPr/>
        </p:nvSpPr>
        <p:spPr>
          <a:xfrm>
            <a:off x="0" y="0"/>
            <a:ext cx="9144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Livrable N°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86B0-7BFE-484E-9EFD-F5C040E33EB5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026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50" name="Freeform 1027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1028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1029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1030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1031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1032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1033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Freeform 1034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1035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036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1037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1038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1039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1040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1041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1042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Rectangle 1043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1044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1045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1046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047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1048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049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050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051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052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1053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Text Box 1059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60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06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 30 septembre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7C0247FC-BB56-4437-AC51-0764ECB07D84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 28-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 30 septembre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 C:\polo\communication\présentations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 1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06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Livrable N°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7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8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6C48-AB1D-4051-AAB5-A824C024F711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cc00"/>
                </a:solidFill>
                <a:latin typeface="Arial Black"/>
              </a:rPr>
              <a:t>Rapport final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e qui a été réalisé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logiciel de gestion des st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site opérationnel de v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Une communication vers les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Objectifs complémentaire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itiation à la micro-informat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ensibilisation à l’ensemble des techniques mises en œuv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9040" y="8377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Les problèmes rencontré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planning trop serré dès le dé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disponibilité des acteurs de ter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développement en RAD du site (logique difficile à mettre en œuv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réalisation de l’interface graphique du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e qu’il faut amélior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’organisation du re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finesse de la plan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rigueur dans la communication opérationnelle (compte rendus écrits synthétiqu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e qu’il faut renouvel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mode de fonctionnement avec le commandita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mise en place des rôles de chacun (temps pris pour la définition des fiches de pos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gestion de la communication promotionne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Remerci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À Philippe qui a consacré beaucoup de son temps personnel au proj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À Claudio pour sa rigu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À François pour sa disponibil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À Henri pour la confiance accordé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EFII-CAPS</dc:creator>
  <dc:description/>
  <dc:language>en-US</dc:language>
  <cp:lastModifiedBy>Utilisateur Windows</cp:lastModifiedBy>
  <dcterms:modified xsi:type="dcterms:W3CDTF">2008-06-18T06:50:03Z</dcterms:modified>
  <cp:revision>19</cp:revision>
  <dc:subject>O3-MODELES</dc:subject>
  <dc:title>Présentation de projet</dc:title>
</cp:coreProperties>
</file>